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6FF-8BB2-438C-B97A-0D0A1A68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50D-F38B-4968-B11A-24E682C6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EAB-3784-4BB9-926A-EEDF40E2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548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548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991-11B1-4155-B596-0CD6B575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BFC-2457-466F-AF65-77DA5F5E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363-C3F2-4E72-BE44-FF1E6ADC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C66-1595-4889-BDBF-1F4E385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B17-9B1C-48C6-A4F6-041E860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48196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0CC-D031-4252-B51B-10D0FDD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A94-76FD-4B19-91D4-3B6331F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92B-7F22-43F7-9240-6BEF11C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FCB-DBA2-4596-8E96-176C08A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312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399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2636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6640" indent="-4381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C2B9-57FD-467D-8611-487B1DF7D4E7}" type="datetime2">
              <a:rPr b="0" lang="zh-CN" sz="1200" spc="-1" strike="noStrike">
                <a:solidFill>
                  <a:srgbClr val="ffffff"/>
                </a:solidFill>
                <a:latin typeface="Tahoma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83920" y="6324480"/>
            <a:ext cx="4838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5336-23F8-4C99-98E3-19C1611D1102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5840" y="1023120"/>
            <a:ext cx="83106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35240"/>
            <a:ext cx="914400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uerui W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isor: Prof. Tom Mitc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Automated Learning and 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15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4680" y="6124680"/>
            <a:ext cx="4405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borrowed some slides from To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7E4-7D37-4FB9-9BA5-3997542F1E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8A491-D3FC-4874-B317-6BA2A5FE627E}" type="datetime2">
              <a:rPr lang="en-US"/>
              <a:t>Thursday, July 30, 2026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2160" y="6084720"/>
            <a:ext cx="545760" cy="54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 algn="ctr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9040" y="1536840"/>
            <a:ext cx="1498680" cy="0"/>
          </a:xfrm>
          <a:prstGeom prst="line">
            <a:avLst/>
          </a:prstGeom>
          <a:ln w="1015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02520" y="2481120"/>
            <a:ext cx="1498320" cy="0"/>
          </a:xfrm>
          <a:prstGeom prst="line">
            <a:avLst/>
          </a:prstGeom>
          <a:ln w="101520">
            <a:solidFill>
              <a:srgbClr val="01a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D2E-A9C9-4B80-8DE4-AF1522F5DBD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888BE-97A2-4319-B532-F7E4F5F09F8A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4.72222E-006 0.13774 E">
                                      <p:cBhvr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972720"/>
            <a:ext cx="7816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Learning Methods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881360"/>
            <a:ext cx="7147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ussian Naïve Bayes Classifier (GN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arest Neighbo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Vector Machine (SV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1160" y="4624560"/>
            <a:ext cx="7189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one subject out cross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guessing =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120" y="3673440"/>
            <a:ext cx="78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esult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080-5CC9-4D68-9F2C-33A148F6AC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C1CF9-8B32-4A55-960F-2E30DE22EDEA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3240" y="501480"/>
            <a:ext cx="848196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Significantly Better than Random Guessing?</a:t>
            </a: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59080" y="1509840"/>
                <a:ext cx="61639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06600" y="5272200"/>
            <a:ext cx="234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boun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03A-4985-4FE3-BD3A-9E5DA410428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21333-52FC-4EED-8648-A984E7DA885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93960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Feature Selection and Abstraction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9440" y="1795320"/>
            <a:ext cx="7914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fdd01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average all voxels in an ROI into a supervox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ctiveAvg(n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each ROI, we first selec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t active voxels, and then average the selected voxels into a supervox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001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ctive(n)</a:t>
            </a:r>
            <a:r>
              <a:rPr b="0" lang="en-US" sz="2400" spc="-1" strike="noStrike">
                <a:solidFill>
                  <a:srgbClr val="fdd01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selec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t active voxels in the whole brai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5189400"/>
            <a:ext cx="896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-based selection Vs. Discriminability-base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BDA-79A4-4A65-8D0F-8975FEAEBF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1B261-716B-438F-BDA0-8A295563422B}" type="datetime2">
              <a:rPr lang="en-US"/>
              <a:t>Thursday, July 30, 2026</a:t>
            </a:fld>
          </a:p>
        </p:txBody>
      </p:sp>
    </p:spTree>
  </p:cSld>
  <p:transition spd="med"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69040" y="2500200"/>
            <a:ext cx="1498680" cy="0"/>
          </a:xfrm>
          <a:prstGeom prst="line">
            <a:avLst/>
          </a:prstGeom>
          <a:ln w="101520">
            <a:solidFill>
              <a:srgbClr val="01a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2280" y="3154320"/>
            <a:ext cx="1498680" cy="0"/>
          </a:xfrm>
          <a:prstGeom prst="line">
            <a:avLst/>
          </a:prstGeom>
          <a:ln w="1015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7FA-EAA2-4721-AE63-FFF8D3488FE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08EA1-6F09-4C38-A712-EBF69B131748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4.72222E-006 0.09121 E">
                                      <p:cBhvr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1: Sentence versus Picture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1120" y="1488960"/>
            <a:ext cx="41673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: read sentence, view picture, and answer whether sentence describes picture correc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presented first in half of trials (PS), sentence first in other half (S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160" y="1498680"/>
            <a:ext cx="397512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every 0.5 seco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een su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bjects: star, dollar, pl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by Just et 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03120" y="5421240"/>
                <a:ext cx="8704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tence,Pictur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143-E92D-4450-9DCF-7663D4FC4B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49BC1-3E1C-4FDB-9AFF-7049E0BDEF3F}" type="datetime2">
              <a:rPr lang="en-US"/>
              <a:t>Thursday, July 30, 2026</a:t>
            </a:fld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68560" y="2819520"/>
            <a:ext cx="69847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rue that the star is above the pl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6640" y="900000"/>
            <a:ext cx="6984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_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9160" y="2844720"/>
            <a:ext cx="139680" cy="13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1C6-DC78-4A85-91EC-B57215B6BCF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EFEAB-3659-456E-AE2E-E7DE7C58B129}" type="datetime2">
              <a:rPr lang="en-US"/>
              <a:t>Thursday, July 30, 2026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77040" cy="54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FF1-C108-4914-BC4E-B21476CE425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B475C-1E0C-4DE1-8C57-6E4293DF499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612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126-81D6-4348-907B-828EC3408C0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EB20C-F650-4931-8E8C-1DC7EF45C15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69040" y="1568520"/>
            <a:ext cx="1498680" cy="0"/>
          </a:xfrm>
          <a:prstGeom prst="line">
            <a:avLst/>
          </a:prstGeom>
          <a:ln w="1015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EF5-F932-4F77-9E13-C793A3FE2AA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D816D-3FEE-464D-B6CF-CD25355CC4D9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45360" cy="543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DFA-D38D-4A03-B363-8911D8AEDAD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DA21F-79A1-44D8-A76B-BE6BC41C7555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4800" y="1096560"/>
            <a:ext cx="8482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Normalization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9280" y="2298600"/>
                <a:ext cx="36752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844560" y="4122720"/>
            <a:ext cx="7689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s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s are the data from a trial before and after normalization, respective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38B-CD7D-43D1-901B-3CF0C60EBCC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CEEC-7DDA-4279-AF9B-A9ED4C50B536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8480" y="56304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entence versus Picture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7160" y="1530360"/>
          <a:ext cx="8716680" cy="45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1530360"/>
                    <a:ext cx="87166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7B7-7AE6-406C-BDB0-98A00FFDF8B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7F096-22C6-4B69-94AC-7C32069C5DFF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entence versus Picture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55560" y="1647720"/>
          <a:ext cx="7740720" cy="43833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  <a:gridCol w="1546200"/>
                <a:gridCol w="1549440"/>
                <a:gridCol w="154764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 + 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% (90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5% (79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% (6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7% (89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5% (8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2% (69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1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6% (61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8% (59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2% (87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8% (69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6% (59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0% (89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9% (74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9% (60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0% (9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0% (88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1% (7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8% (94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2% (82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0% (71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8% (9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4% (8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% (73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0% (95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7% (86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% (73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5% (96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% (89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2% (84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3% (94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7% (83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2% (8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2% (9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9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8% (87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% (96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6% (86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1% (86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920960" y="6248520"/>
            <a:ext cx="554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accuracies within parenthesis are with normaliz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764-304F-4A82-A3BA-D90D408C74D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F170E-1A46-46E4-9F90-115CB83FF36E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64152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1434960"/>
            <a:ext cx="38098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: Read sentence, read a T/F question, and answer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entences are ambiguous,  and other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330200"/>
            <a:ext cx="38098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every 1.5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su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ambiguous, ten unambiguous sentences per su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by J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6840" y="5321160"/>
                <a:ext cx="877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mbiguous,Unambiguou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3E6-44DE-47D8-A323-F8B20646694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B3D68-EA60-4EA0-BBA2-C3343F63C0EC}" type="datetime2">
              <a:rPr lang="en-US"/>
              <a:t>Thursday, July 30, 2026</a:t>
            </a:fld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600" y="2130480"/>
            <a:ext cx="850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enced soldiers warned about the dangers conducted the midnight rai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enced solders spoke about the dangers before the midnight rai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5CA-2755-4C69-AED6-41A84E574F3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56AF1-7221-4A3C-9E32-E1BB8993913B}" type="datetime2">
              <a:rPr lang="en-US"/>
              <a:t>Thursday, July 30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yntactic Ambiguity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73240" y="1413000"/>
          <a:ext cx="6735600" cy="4383000"/>
        </p:xfrm>
        <a:graphic>
          <a:graphicData uri="http://schemas.openxmlformats.org/drawingml/2006/table">
            <a:tbl>
              <a:tblPr/>
              <a:tblGrid>
                <a:gridCol w="2117520"/>
                <a:gridCol w="2408400"/>
                <a:gridCol w="22096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ACCUR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B59-6D00-47C1-9B67-B845D21D83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23667-C97C-41B8-AF75-8A67B12DCF0A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53200" y="3124080"/>
            <a:ext cx="1498680" cy="0"/>
          </a:xfrm>
          <a:prstGeom prst="line">
            <a:avLst/>
          </a:prstGeom>
          <a:ln w="1015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3480" y="4202280"/>
            <a:ext cx="1498680" cy="0"/>
          </a:xfrm>
          <a:prstGeom prst="line">
            <a:avLst/>
          </a:prstGeom>
          <a:ln w="101520">
            <a:solidFill>
              <a:srgbClr val="b3e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1C1-3F79-4B89-90AD-2949A64082D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7F040-2468-4AB6-AFC9-F9563EA1CA82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-0.0033 0.15092 E">
                                      <p:cBhvr>
                                        <p:cTn id="16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Lowest accuracy that is significantly better than random guess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4680" y="1857240"/>
          <a:ext cx="8502480" cy="1154160"/>
        </p:xfrm>
        <a:graphic>
          <a:graphicData uri="http://schemas.openxmlformats.org/drawingml/2006/table">
            <a:tbl>
              <a:tblPr/>
              <a:tblGrid>
                <a:gridCol w="1904760"/>
                <a:gridCol w="1586160"/>
                <a:gridCol w="1674720"/>
                <a:gridCol w="1636560"/>
                <a:gridCol w="17002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+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TACTIC AMBIGU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examp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est accura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08040" y="3278160"/>
                <a:ext cx="6027840" cy="29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29A-7399-4804-8968-EE7CEF52F319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3483A-8965-45D4-BC65-E5E291D50D8A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972720"/>
            <a:ext cx="7816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OI Mapping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881360"/>
            <a:ext cx="7147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dvantage of the anatomically defined ROIs as basis for spatially abstracting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all or some voxles in an ROI into supervoxel and combine data in terms of RO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09720" y="4578480"/>
            <a:ext cx="7189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 fMRI data from different subjects into the standard Talairach-Tournoux coordin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680" y="3763800"/>
            <a:ext cx="78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Talairach Trans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612-60A2-4641-B105-B3793410DC5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C1D8B-E6D4-498E-A34A-58C299887F11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507600"/>
            <a:ext cx="78166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functional Magnetic Resonance Imaging (fMRI)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693800"/>
            <a:ext cx="6029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Structural/Anatomical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M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Functional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5912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Blood Oxygen Level Dependent (BOL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3920" y="4187880"/>
            <a:ext cx="6029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cator of neur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67480"/>
            <a:ext cx="8763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egion of Interest (RO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97440"/>
            <a:ext cx="8763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Vox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2C8-3538-427D-AB8F-7EFD652B92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BE52B-AD5C-4A14-970A-00A246F91D3F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468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ROI Mapping Vs. Talairach transformation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4200" y="2133720"/>
          <a:ext cx="8532720" cy="2293920"/>
        </p:xfrm>
        <a:graphic>
          <a:graphicData uri="http://schemas.openxmlformats.org/drawingml/2006/table">
            <a:tbl>
              <a:tblPr/>
              <a:tblGrid>
                <a:gridCol w="2558880"/>
                <a:gridCol w="3130560"/>
                <a:gridCol w="28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MAP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AIRA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resol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of irregular 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4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ubic vox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decreases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ces additional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ls with smaller data s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ls with larger data s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ordinarily complex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ground knowled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1FD-5215-48A2-B9BB-F614A1664C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785E4-BA60-49B7-B95C-2CB83AAE29B8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4800" y="2728800"/>
            <a:ext cx="84823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METHOD 1: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ROI MAPPING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F9D-D58B-46D7-A312-E05BE006A5B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E74EF-497F-4FA2-9C02-DDC8EA5AC9D7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759960"/>
            <a:ext cx="848196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ROI mapping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1: Sentence versus Picture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2479680"/>
          <a:ext cx="8502480" cy="3138480"/>
        </p:xfrm>
        <a:graphic>
          <a:graphicData uri="http://schemas.openxmlformats.org/drawingml/2006/table">
            <a:tbl>
              <a:tblPr/>
              <a:tblGrid>
                <a:gridCol w="1699920"/>
                <a:gridCol w="1701720"/>
                <a:gridCol w="1698840"/>
                <a:gridCol w="1701720"/>
                <a:gridCol w="17002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 + 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7% (88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1% (82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5% (74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8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4% (77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8% (75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4% (84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6% (7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6% (6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9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8% (75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5% (67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4% (88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9% (78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% (68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2% (92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% (87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4% (72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8% (91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2% (8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4% (6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9% (93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5% (86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0% (71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1% (9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8% (87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6% (72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874880" y="5958000"/>
            <a:ext cx="554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accuracies within parenthesis are with normaliz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821-6B68-4397-9367-EDF183D3F84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74E7B-A169-4FA2-A601-2C3617A917E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P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5760" y="1368360"/>
          <a:ext cx="8447040" cy="43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68360"/>
                    <a:ext cx="8447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7B5-35B5-41BD-90C7-27582FAC48D3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9049C-8934-486D-B944-4CB36D0735A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PS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492200"/>
            <a:ext cx="6811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8640" y="1370160"/>
          <a:ext cx="8437680" cy="438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1370160"/>
                    <a:ext cx="843768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FCD-431B-4DE3-8E71-65F6257E19A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EB752-0F97-4C07-8976-C2D4CBAA450E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P+PS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5760" y="1370160"/>
          <a:ext cx="8427960" cy="438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70160"/>
                    <a:ext cx="8427960" cy="43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EF2-5B36-4D54-8BA4-8FF0F13F6F1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4B396-2846-4EA8-B346-AE0A13F74A91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6600" y="2281320"/>
          <a:ext cx="8502480" cy="3138480"/>
        </p:xfrm>
        <a:graphic>
          <a:graphicData uri="http://schemas.openxmlformats.org/drawingml/2006/table">
            <a:tbl>
              <a:tblPr/>
              <a:tblGrid>
                <a:gridCol w="2673000"/>
                <a:gridCol w="3040200"/>
                <a:gridCol w="27892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ACCUR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7599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ROI mapping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A62-8A16-4C13-A66E-0A32BD28505D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4753-38F9-40EF-826F-CC52D2CC0319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50292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yntactic Ambiguity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5760" y="1370160"/>
          <a:ext cx="8022960" cy="4662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70160"/>
                    <a:ext cx="80229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51F-CDD6-4CB8-BE1E-92506592DE38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E23E4-3610-4411-AE2A-5C6666EA8BB7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0400" y="2666520"/>
            <a:ext cx="8481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METHOD 2: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TALAIRACH TRANSFORMATION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(Syntactic Ambiguity)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82E-1AEE-4BD1-A161-C715D74993B4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88A55-F5A9-4791-BDC0-DCA7EE6BDFA0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97080" y="4745160"/>
            <a:ext cx="730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ubject D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ubject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1015560"/>
            <a:ext cx="848196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gittal view in Talairach space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8720" y="6545160"/>
            <a:ext cx="5915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d013"/>
                </a:solidFill>
                <a:latin typeface="Arial"/>
              </a:rPr>
              <a:t>(# of voxels with activity value greater than 5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8840" y="5167440"/>
            <a:ext cx="1131840" cy="4204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522432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121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53040" y="5137200"/>
            <a:ext cx="1131840" cy="4204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05280" y="6067440"/>
            <a:ext cx="1131840" cy="4208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0240" y="519444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116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65560" y="610884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72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68600" y="5559480"/>
            <a:ext cx="654120" cy="52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875120" y="5545080"/>
            <a:ext cx="479520" cy="59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244520" y="1413000"/>
            <a:ext cx="3189240" cy="3363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627440" y="1411200"/>
            <a:ext cx="3194280" cy="3367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7520" y="436680"/>
            <a:ext cx="8481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Do the scanning bands overlap exact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D3E-F568-45A3-A0DF-73900E11BBF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7BDF5-6678-4B36-8A1A-BAD9D7223BDD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562" t="8166" r="8594" b="5207"/>
          <a:stretch/>
        </p:blipFill>
        <p:spPr>
          <a:xfrm>
            <a:off x="1135080" y="1041480"/>
            <a:ext cx="7237440" cy="542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5760" y="439560"/>
            <a:ext cx="78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A Small Portion of fMRI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009-E239-40C4-91D9-0AFBA25EB50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23A24-AB23-4B0D-88C5-B01A58813E0C}" type="datetime2">
              <a:rPr lang="en-US"/>
              <a:t>Thursday, July 30, 2026</a:t>
            </a:fld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004760" y="10159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31640" y="453960"/>
            <a:ext cx="787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# of voxels Vs. Intensity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3B8-397C-4F48-917A-BAC4CEB8C184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90215-53C0-4CC7-B545-3DFD3A9B63F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862280" y="955800"/>
            <a:ext cx="5284800" cy="557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1640" y="453960"/>
            <a:ext cx="787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5449 Voxels in Talairach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B56-EBAA-418A-9D98-C068D4BFE126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33941-B4F5-4AE5-947D-79E7093C47B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880" y="3559320"/>
          <a:ext cx="8502840" cy="1920600"/>
        </p:xfrm>
        <a:graphic>
          <a:graphicData uri="http://schemas.openxmlformats.org/drawingml/2006/table">
            <a:tbl>
              <a:tblPr/>
              <a:tblGrid>
                <a:gridCol w="2833920"/>
                <a:gridCol w="2835360"/>
                <a:gridCol w="28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ACCUR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VOXELS (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,98,100,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,194,1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517680"/>
            <a:ext cx="8481960" cy="25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Talairach transformation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feature selection, best accuracy is 59% (SVM).</a:t>
            </a:r>
            <a:br>
              <a:rPr sz="2000"/>
            </a:br>
            <a:endParaRPr b="1" lang="en-US" sz="2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7040" y="3011400"/>
            <a:ext cx="292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F4F-76A6-4485-BD71-AC2642DB894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678BC-359A-4AA2-AD4B-2B80F929C0D1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Approach 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2160" y="1503360"/>
            <a:ext cx="545760" cy="89856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1280" y="137016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88160" y="6400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66200" y="22683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83600" y="2395440"/>
            <a:ext cx="544320" cy="141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48560" y="360684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82160" y="3813120"/>
            <a:ext cx="545760" cy="1163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50000" y="47736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" y="46306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Talairach transformation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82160" y="4978440"/>
            <a:ext cx="545760" cy="102240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69080" y="57294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82160" y="5985000"/>
            <a:ext cx="545760" cy="6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ROI mapping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37360" y="5105520"/>
            <a:ext cx="1498680" cy="0"/>
          </a:xfrm>
          <a:prstGeom prst="line">
            <a:avLst/>
          </a:prstGeom>
          <a:ln w="101520">
            <a:solidFill>
              <a:srgbClr val="b3e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6440" y="6032520"/>
            <a:ext cx="14983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21E-73DE-457F-834C-14F8E27D7CB4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A2268-E4A6-44C9-A772-355C5DF7D3FB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2.5E-006 0.13125 E">
                                      <p:cBhvr>
                                        <p:cTn id="18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1440" y="536400"/>
            <a:ext cx="85568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4160" y="1758960"/>
            <a:ext cx="79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train classifiers across multiple subjects based upon fMRI data using ROI mapping or Talairach transform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400" y="2824200"/>
            <a:ext cx="7972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ven can train cross-subject classifiers across diverse contex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9200" y="3699000"/>
            <a:ext cx="7972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subject classifier accuracy is comparable to single subject classifier accura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2440" y="4670280"/>
            <a:ext cx="79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crease in the sparsity of the training set after combining data from different subjects greatly compensates for the variability among su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D39-BDF8-4668-AF36-97E9211575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DD7F2-493F-4826-91FC-A6DFC5E51C35}" type="datetime2">
              <a:rPr lang="en-US"/>
              <a:t>Thursday, July 30, 2026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440" y="536400"/>
            <a:ext cx="85568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Future Work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83920" y="2033280"/>
            <a:ext cx="79722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the temporal behavior of fMRI dat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data from multiple stud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he computational cognitive models into accou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5E9-6346-46AD-A95A-A3006AF1A6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6CE9E-9987-4432-A139-FFED0BF78480}" type="datetime2">
              <a:rPr lang="en-US"/>
              <a:t>Thursday, July 30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0555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51240" y="1011240"/>
            <a:ext cx="341316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Tom Mitc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Marcel J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William Ed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is Bar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ladimir Cherkass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ecca Hutchin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othy Ke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rishna Kumaraswa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ka La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u Niculesc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co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ardo Sil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el 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iaofan Zh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7C2-60A9-4C0A-9E84-45624F1E30AB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CD3C0-4FD4-4622-B7AC-57A1334AC696}" type="datetime2">
              <a:rPr lang="en-US"/>
              <a:t>Thursday, July 30, 20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98424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6480" y="4257720"/>
            <a:ext cx="87771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: http://www.cs.cmu.edu/~xuerui/xuerui_kdd.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ides: http://www.cs.cmu.edu/~xuerui/xuerui_kdd.p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01920" y="1569960"/>
            <a:ext cx="263520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A2C-F506-4309-A8A9-27196D689BF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0BC17-4FB2-46E4-90D6-3C750272C4D6}" type="datetime2">
              <a:rPr lang="en-US"/>
              <a:t>Thursday, July 30, 2026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1240" y="62532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Goal of This Project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040" y="3571920"/>
            <a:ext cx="829944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xplore the use of machine learning methods to approximate classification functions of the following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11200" y="4800600"/>
                <a:ext cx="802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ognitiveSta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93560" y="1743120"/>
            <a:ext cx="78901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machine learning classifiers to automatically decode multiple subjects’ cognitive states, given their fMRI activity at a time inter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3CC-0D38-46AF-8107-87E6E21D3D7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BF751-10E9-41DF-A746-4BD078BDA69C}" type="datetime2">
              <a:rPr lang="en-US"/>
              <a:t>Thursday, July 30, 2026</a:t>
            </a:fld>
          </a:p>
        </p:txBody>
      </p:sp>
    </p:spTree>
  </p:cSld>
  <p:transition spd="med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112860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Why multiple subjects?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9760" y="2079720"/>
            <a:ext cx="7889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us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iculti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tomical variability among su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variability among su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CD1-88A9-460A-B784-57157300B82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A301E-24F9-41CC-8B5A-7C82260C982B}" type="datetime2">
              <a:rPr lang="en-US"/>
              <a:t>Thursday, July 30, 202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1240" y="624960"/>
            <a:ext cx="8481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The Role of Training Classifiers in fMRI Data Analysis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6640" y="2257560"/>
            <a:ext cx="8012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some descriptive summary of fMRI data, we want some predictive analysis of fMRI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680" y="3340080"/>
            <a:ext cx="75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the mapping from observed fMRI data to the subject’s state, instead of the mapping from the subject’s task to activity in particular reg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4803840"/>
            <a:ext cx="75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lassify the cognitive states based upon a single time interval instead of computing some statistics of the whole fMRI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E55-1409-45FA-AD8C-E59C323A1E6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4AB40-2485-4367-A581-0E4799D3E7B9}" type="datetime2">
              <a:rPr lang="en-US"/>
              <a:t>Thursday, July 30, 2026</a:t>
            </a:fld>
          </a:p>
        </p:txBody>
      </p:sp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240" y="62532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Is This Problem Interesting?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00" y="1770120"/>
            <a:ext cx="8012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basis for new approaches to studying human reasoning processes in both normal and abnormal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to scientists and clinicians across a range of cognitive science research and diagnostic medical appli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ase study of machine learning from extremely high dimensional, sparse, and noisy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BC9-FF16-4294-9BD1-B1D655EE390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B851B-4206-4605-A77A-799BD95470B3}" type="datetime2">
              <a:rPr lang="en-US"/>
              <a:t>Thursday, July 30, 2026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202680"/>
            <a:ext cx="8556480" cy="10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d013"/>
                </a:solidFill>
                <a:latin typeface="Arial"/>
              </a:rPr>
              <a:t>Human Visual Recognition</a:t>
            </a:r>
            <a:br>
              <a:rPr sz="4400"/>
            </a:b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[Haxby et al., 2001]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41146" t="9898" r="14844" b="8333"/>
          <a:stretch/>
        </p:blipFill>
        <p:spPr>
          <a:xfrm>
            <a:off x="3618000" y="896760"/>
            <a:ext cx="4278240" cy="59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4EA-D7F8-4178-A1E3-657F33B4632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DE9CE-7FCA-4B79-96E8-6FCD8ADD7178}" type="datetime2">
              <a:rPr lang="en-US"/>
              <a:t>Thursday, 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8:38:01Z</dcterms:created>
  <dc:creator>Xuerui Wang</dc:creator>
  <dc:description/>
  <dc:language>en-US</dc:language>
  <cp:lastModifiedBy>xuerui</cp:lastModifiedBy>
  <dcterms:modified xsi:type="dcterms:W3CDTF">2003-05-15T17:03:40Z</dcterms:modified>
  <cp:revision>282</cp:revision>
  <dc:subject/>
  <dc:title>Research and Design for Knowledge Management System</dc:title>
</cp:coreProperties>
</file>